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12F-B806-48E4-8E0F-2385D485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E79-4ED9-43CC-87E0-B39FD17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0025-C426-48C1-8206-19B40766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616F7-7CF6-4263-ACE3-56D5A345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A953D-F0A5-4A77-9294-AE5190D5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57801-7F6E-4E95-83CB-C47CF6F8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E6DAB-C107-49F5-9E83-3B88F05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EE17D-06C0-4334-9DA8-E17EDF4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F665D-3B2D-4A14-A336-2E1E30CC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EA5EC-382C-4F35-8955-ED6440E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44FA7-EB56-4245-85E2-F919F1A5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43E6C-C677-4269-A921-751B38FB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653-0CAC-4393-8CDC-B0B64C33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9C0C6-B9ED-4038-937A-ED900CD4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7F4F1-F8B3-465A-9D44-E1AE50F7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26218-8D58-40BC-863F-93B522A4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4FFDC-17DD-4DF2-9550-64F22792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50045-0761-41B5-AABA-11EDB73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A404-5EE5-4EBE-8BA3-1138134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74321-3A9D-4248-9CD7-D1DC39AF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8BAE8-72ED-4C71-9A90-2C0B47AA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36ECC-A4D6-4BA6-9439-0628EBF9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6C915-D0CE-4FAC-96B0-458850FE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87E-6A35-42BC-9BB0-759FF83A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9AF96-D7F5-417E-9D7B-5F91B4E0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49AA7-D67B-40F1-B3AA-DCAF6595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A4488-EB6A-431F-B6A3-507FFE1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D4701-CD9B-496C-861B-A6106832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4FBA5-3CD8-4CB9-BC29-5A4F87A7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AFAC4-55EF-4803-BAF4-BC65E052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AC0A8-13C0-407D-965B-93D50FC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02822-B5B4-4237-A96C-199160A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8C2FA-E466-4B9D-85F2-4D3E57C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AA295-73EF-4D4D-83BB-DB1D359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BE0F-34B0-4D44-8DD7-40C17E09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7A6E-FBF0-41F4-BE5E-E2E303C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57906-AB2C-47F2-909C-A90D8D9C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3537F-C1D9-492F-A240-97F59861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2A78D-4600-44CA-A683-BB99BD46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D5399-EEC0-44E8-9DAC-42556B76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A66E6-EEB9-4308-8ADE-FB0D521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32023-2D43-4F5A-BC6E-1E09625D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58EC1-93AA-4BE4-B11C-A96E30CA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E253C-CF93-4F6F-BA37-F72A4AFD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CDE6B-5F49-4B17-B584-68F7E3D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9DFE-9542-422F-A96B-F438A1C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CFF25-8977-4524-9D3B-EE884AF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A7B0F-0FD4-442F-AACD-D5E636F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F7679-094C-4C92-B7EF-FEBB2DD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B6499-8531-40CE-B4F1-58DED299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C09FE-C139-4BF7-BD44-B71BF193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BA695-DB32-4EC8-9C30-1A75C91F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D381C-E92C-4880-8B3B-B25E7425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A2B59-AA8A-4F0C-819B-0D5EEBC6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98D44-CFC3-408B-9E0A-ACBC6862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22D99-B1C0-406E-A136-582F5A55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ADE9-7D3F-4709-8056-D95A48BF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13F63-E8DF-44FB-8C28-B1A9074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78B7C-F9B4-4D9A-AA94-BE40F6F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5CB20-2CA9-429F-B871-0E36CF6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941CC-F71C-42AF-951C-3376D0DC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210D2-D658-426D-BBEC-99927B5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C0D76-C3BA-46EA-915B-14229755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E0A17-1845-4642-95C0-A7C05FDD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519AB-4521-4C9E-9927-7661A6FE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C1077-4AA5-46CD-90B5-6E56C92D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927DE-A49D-4CE8-BA31-63A9B8A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5EA-69C3-4687-8C64-563B0ED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8EDA8-1064-47B9-9AED-54CBE9C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AE229-5F9E-4999-A1EC-B93A93A2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0D289-791B-4EC1-A5FF-05860245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A9555-9699-417E-B770-10513B9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F8E18-D8F8-4615-9D9A-B8C4296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176B1-D21C-4D3C-B5E3-65A4637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B99DE-7243-4079-9EDA-8127DDA1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96CB0-7E5A-446C-AFA5-44F92A3B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D1137-F25F-4F6A-BF8D-E06792A3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6D7DD-1C94-40B9-A4D3-AC26AAD8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96AD-11F9-4C84-8BA0-200CB39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482CB-A03F-4BD1-A536-182D829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9719F-4ACF-4A1E-9E3B-D43B2AE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3016B-9CC3-4C7F-8153-87D56C7D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BC49C-E6D3-4787-8F80-D77B07C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AC323-0A70-4204-AF02-CF76FD1A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7E8DB-7498-4B05-B752-F86FB3F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D8448-5BB7-4219-87DF-B8A5C2B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98ACC-9982-4A0C-BCCE-AA3B3B5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F9781-9679-4D99-A6A5-D40A4344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660EF-5BF5-4D41-A03C-1176F01E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71B-DB45-4856-BEF5-2F41B6DD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E0EBB-2228-4E98-9B96-A2A71026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04C32-6184-444E-AA94-F123EBD7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45679-B995-49FF-BC29-46E0230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F5384-D33E-4E33-84BA-8E57A01C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186D9-3038-4AC0-81A9-6AED2826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1D377-0CA5-49A6-A98A-F28D0C7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530AF-8081-4370-9723-B70D0034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F664C-DFBE-48B5-B233-9369231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278FC-FA59-4545-ABEC-81B8D1A6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12C37-976E-4C57-BF82-65A46E8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2D8E-022B-4092-99AC-E8FEA888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577B0-4C72-463E-A389-45C8ECD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75D7E-14E5-4882-8B06-99AFAACF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6406B-3FB6-4FD9-8DB7-B510EA2C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1E53F-4886-477A-B19A-F6184882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7C313-2291-4792-AB3C-5A80C039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019F1-F304-449A-8536-2A8E1A9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17B49-6E0F-40C2-85ED-99D331E3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4D89D-2C07-457D-8034-5D72BDEF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FF764-3DD9-4861-B1A3-44C7C9B3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F7AED-DA51-46FB-9AFF-6B69B60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C46-1ABB-4C8E-9899-992890C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4E1F-A1FE-43A7-8007-36EDFD6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B63F1-D6A9-4C5E-8252-AE1F6CB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CF8AE-AC56-40A1-809A-9702A30F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206D1-2C78-4F96-946E-6C4BCBC6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8CA05-EBB3-4AD3-BD27-A3CCE7F0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4F515-C761-4308-96B4-F084E9A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6D58D-3213-460D-8DC1-B9E63AAF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A083A2-C396-4ED7-9DBF-91449E2C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4A31F-B6B1-46F3-9AF9-0B881112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50F37-3F5F-4A5A-AAB9-53E8210D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C68E0-D053-4624-9A7A-DEB5E5AD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B77-897A-4F32-BB81-63B60AA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7B8AA-D825-4902-909A-00405E81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05646-CD99-405D-BEB3-0890590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A7B78-DC47-43B5-B1F0-994D1D36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9AB6D-5F43-4E6A-9F3E-B854E37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2650E-BE0D-41AD-B58A-70C8DB9C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EEF25-F6B7-493C-B682-A9E983C5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CDBAA-06A5-4E30-9717-104344B9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D9407-2AB5-48E5-804F-9FC205C5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3B075-0DE3-4473-A308-C1C2076B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AD989-967C-4E79-96F0-0864769A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563-EAE2-4775-B9BC-C8523E8B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29E63-18CB-4228-A5BA-68D34CCD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5D5CA-7AB4-41B3-8212-8AF762A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AD1E6-35F0-4017-A00A-1D12EE4C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22C53-63DD-41F0-A9E6-DDB2FD3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49E0E-EA1B-4530-A884-E923E31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ED536-AA41-4AA8-8173-3AA762CD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4CE328-0BF0-4624-922E-B4C18086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39B784-DB82-451F-90E7-7D2F6B8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4E366-C76B-4B97-ADA5-8CE408AE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CC488-3A17-490A-BFC5-00C30D4E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7DBA-FC98-4EDA-BF65-3BA022F1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91EDD-5ADD-401B-B67D-D4703BF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D9718-BD96-4747-8711-C15E2D77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1DBBE-EDDF-4315-8C2B-CF67760B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F3B0D-F81A-4D54-930F-E1BAA1D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FF1D6-BBA1-49A2-843D-2BEF174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F8B7C-097B-4811-81F6-3C05D89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3E387-7560-435A-8AB8-30DC504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29515-246C-4A85-AD95-0B3E21F6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28F8C-8427-4500-A77D-DF29E76A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9A838-ABC5-479D-AF93-2E5C96B1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7C4C-3D73-47C3-A00D-89AB48B5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22B7B-8D93-421E-9708-A5E0E23F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5C4DE-7F66-47A6-9A2C-C4382AD1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7D23A-0C91-4F66-ABF7-9D88232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91E4C-FC2C-4169-B7A9-10090C37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A072E-5B09-415B-B346-D006CCA6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5EA77-3E38-46B1-9B1D-FBED0617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3F566-D291-48A4-B137-6332FCA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78880-A303-45EF-8A87-352E5A7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63F19-A7E9-4C85-A669-76A3629B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8402B-FC63-4637-B565-7C18B96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4D32-A6A3-40B2-9C8F-B281348A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1E570-8D14-4825-9B81-AB4C7C5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7FA57-DE9A-4A50-A673-BF4674D3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44608-0061-4D46-B1AC-47EF0EEA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204D-A8AD-440F-A6E6-13B7820A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F331-DE6A-4AEA-978B-5960E66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85D4-434C-4909-9AC2-27B74085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C387-AEC7-4138-AF68-D665E300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85D-5372-4647-9290-860229E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F82E-8AF6-4D09-8AA2-4D39C37F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EFF0-700D-4D3F-83C9-DC13838F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C718-EEAB-481E-BCA3-9164343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E0DD-A3BD-44B7-9BAF-21C1FA1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FF9B-10C4-46C6-93EF-DABDAE1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094F-7379-433C-8D9B-C49972E4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2998-F527-4AC4-A4F5-7DDBC447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1A47-09EA-411F-9676-5D2FD82E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BF5A-3F9A-4BD8-9D24-A5E6C2F1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A608-D9EE-4C9E-82F4-A28DA310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1B4-84B2-4CC5-B1E2-5277F09D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D2BA-6677-4477-8B73-796BECF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3274-8F39-401D-B4F9-08B8A7F7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2C71-CEBE-48BF-94C0-F4F28648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F7CE-2EE8-440A-BF4F-DD94214B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8B40-FA72-483F-B1EB-CC4AA50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0D24-60CF-4F1E-9348-577C549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B0F6-B634-4597-B5B4-15EFA6A3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55F9-3EEB-4D27-ACFD-735D568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301F-DA44-4E08-9A5E-CCF5EBD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46356-29A6-4140-899D-F81DD220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9C3-528A-4825-99A3-FCEC0F3A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F1C4-8573-45CB-B707-087372C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F3F6-DA12-487E-8B02-5FFC3AC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EFDC-34D1-4B51-8BC5-3D034FA9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A5DA-BF73-4A5C-A200-AE2215E9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1784-079E-41BF-84C5-91FF602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8E29-EF77-4EF7-A715-47B0B55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D913-9870-40C3-9FB5-1216A56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A346-02E7-4CE1-A73C-65BD76C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F3E0-9719-43F3-9040-F9CB5A1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E794-8597-4939-A222-ACCA0A86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28B-936E-44CB-BF4C-0B7813D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0443-E510-4F1F-9A5B-F432AD49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D75E2-934B-46CE-8E68-333E6EF0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A3228-F9DC-4940-84DB-626DACD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6740-0BCE-4E48-AC89-1AB7DA9D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4016-FFD7-45BD-BE12-CF696CA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91F64-FD83-45D5-B963-38816D31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3984-2367-474C-986C-6F3BE5F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80122-7F6F-49D8-B7B7-5EB4A4C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82468-7050-4D60-9595-4F60A97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93FC-4472-4FA3-8277-0DD7D0F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905-1909-4871-8A89-D107CFB5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F7954-659E-47DA-8729-0C04646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47677-2E4B-4AD5-AAB9-3909D756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B099-35FB-47F9-9ABA-0A5B0142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2059-E344-422E-B34D-DF851605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C204-D712-41A3-9574-4F0582D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CBA70-8006-4454-B73B-7978682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070EF-1F5F-4096-8386-0ACB73A0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83711-0245-4C4A-969E-E4AB9BCE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CC706-93A1-41C4-B2F5-A590A8B6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AB51B-E132-4D91-896C-9549CF5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998-886B-4788-B729-BD89DDB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4FA8A-7C87-4622-908E-3B857EF1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74068-029E-466B-9BBD-834DCBD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724A8-2CEC-4421-8985-A34B9BD8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48D3-5931-4D7D-A0E8-7A9CCFD9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A6AA8-2D86-448F-A2DD-7B40DBE3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AA90-C304-44F6-B612-4503E716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D62A-ABC1-4954-9E49-99642A9F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B30C9-A495-4E3E-B1CE-DFA8E789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EAAEF-EA22-4520-9FB6-1DB2CE2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EA49E-2AE0-40FC-AA93-B692BFC8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13D-48EA-4E9D-ACA2-E9A15AA2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5F66B-1FCC-4D07-A6CC-81CC6F8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4E068-A812-4EE7-87D2-754497A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F472D-98AF-47B7-B722-6421564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C414-3C97-4A3F-8E19-0986B42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98F91-2DED-4410-85DE-9DE491D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3B33-7205-4BA7-95E0-5FD8B67E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369E4-A95D-40BB-B403-3834892E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2B0DA-7C5D-4ED0-9F76-41B32C8B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E0F54-DAAF-43FD-8586-2C53B4A4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B8CE0-A7F1-41E6-BFB8-20FA717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09DE-000F-4DB5-995A-D3B48CE6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0A5-F9FA-4F7F-BD58-AC512EF56B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3B6-81C0-40ED-B3E7-7FC994AA7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2F6D-09B6-41C9-A033-0B549CD1A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9DA-2ED6-4251-AF9F-B4253116DD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C3D-B611-4424-A811-41EC392CD6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F85-8163-40A1-A226-0BEB1E20E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5B67-289B-4514-BA79-D45767399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DB8-1B40-49A0-B9D4-96CCBDF68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F72C-E7C1-4271-B53C-5B01B79EA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ADE6-DD75-4AD9-ADAD-7F8EC66E44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1DFD-2015-4216-8CA4-C7175CF1DD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7EC-476A-4ACA-8E1F-90F6792832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642E-05BA-414F-9825-3360F5547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F208-D598-4F54-AEFF-5AD4CFF7A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6BD7-F8DF-4F9F-9732-4CA561B781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530-D6D2-40A7-8A32-823E03491B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BE59-76CC-4919-8666-609BAF6AC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3BA1-D538-48A0-BC47-7F6232AAF7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D143-D9C9-4361-90A0-94240F98F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13CA-75FE-4B56-959C-5D4DD4C6F5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356F-B8D7-4757-8557-5A1981E94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543B-8B84-4D88-B57E-D2BEA75EE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D4AD-676A-4BA5-AE3D-7EE55CFA31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8421-702D-4607-A374-4CF013E19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501D-41D8-4C60-AB17-77F79D254B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E74-EE0F-4182-899B-1F4CC5EEBF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2203-2333-4794-A616-D09844152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26E-2F67-459C-8FEE-557FECA51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2AC5-EC36-465D-BC4F-DEF1BF83B0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898D-F044-489A-9775-47D085CAF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852-6830-47E6-85A8-7F0F7B9C0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309-BE29-44AF-93CB-FD31D78D2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158-AC3C-40B6-8187-972D772C3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E5F6-7ECD-4EF9-AB24-3BCF6B1BA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A20-13C6-418F-82CA-F3D05EF81C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AF6-4AA9-4170-B785-BB581AF1D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2DE0-1285-40CB-9145-9AF2FE0A0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67AE-1884-4782-8BAE-DB28A2E878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6F7A-BBF8-4CE9-A769-7B197BCA8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7520" y="3060720"/>
            <a:ext cx="90489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04760" y="1490760"/>
            <a:ext cx="8934480" cy="3876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203640" y="31701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796000" y="315612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317080" y="315612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219640" y="4998960"/>
            <a:ext cx="504720" cy="3049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761160" y="4998960"/>
            <a:ext cx="5047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95200" y="2138400"/>
            <a:ext cx="8553600" cy="2581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258920" y="371628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258920" y="4164120"/>
            <a:ext cx="50472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2840" y="2190600"/>
            <a:ext cx="9056880" cy="2476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722680"/>
            <a:ext cx="504720" cy="393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71640" y="3730680"/>
            <a:ext cx="50472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61920" y="835200"/>
            <a:ext cx="9018720" cy="57416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170" descr=""/>
          <p:cNvPicPr/>
          <p:nvPr/>
        </p:nvPicPr>
        <p:blipFill>
          <a:blip r:embed="rId2"/>
          <a:stretch/>
        </p:blipFill>
        <p:spPr>
          <a:xfrm>
            <a:off x="1692360" y="5891040"/>
            <a:ext cx="1812960" cy="5590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7171" descr=""/>
          <p:cNvPicPr/>
          <p:nvPr/>
        </p:nvPicPr>
        <p:blipFill>
          <a:blip r:embed="rId3"/>
          <a:stretch/>
        </p:blipFill>
        <p:spPr>
          <a:xfrm>
            <a:off x="4095720" y="5891040"/>
            <a:ext cx="1812960" cy="55908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7172" descr=""/>
          <p:cNvPicPr/>
          <p:nvPr/>
        </p:nvPicPr>
        <p:blipFill>
          <a:blip r:embed="rId4"/>
          <a:stretch/>
        </p:blipFill>
        <p:spPr>
          <a:xfrm>
            <a:off x="6458040" y="5891040"/>
            <a:ext cx="18129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071720" y="2271600"/>
            <a:ext cx="7000560" cy="2314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8194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1871640" cy="55908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8195" descr=""/>
          <p:cNvPicPr/>
          <p:nvPr/>
        </p:nvPicPr>
        <p:blipFill>
          <a:blip r:embed="rId3"/>
          <a:stretch/>
        </p:blipFill>
        <p:spPr>
          <a:xfrm>
            <a:off x="3708360" y="3946680"/>
            <a:ext cx="1871640" cy="5587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8196" descr=""/>
          <p:cNvPicPr/>
          <p:nvPr/>
        </p:nvPicPr>
        <p:blipFill>
          <a:blip r:embed="rId4"/>
          <a:stretch/>
        </p:blipFill>
        <p:spPr>
          <a:xfrm>
            <a:off x="6099120" y="3933720"/>
            <a:ext cx="1871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2:2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